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11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E287-8DB3-470F-A0B9-9DD0FB005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3279-7A72-4D9A-B85E-ECB22DD58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0066-F4F2-4B84-B748-163C3DE2B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DF57-98AC-4AEB-8680-CE86D1096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AE35A-2CE7-4705-A1E4-7C01800D7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49302-825E-464F-B8B8-844725EDD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0B658-0B4B-455C-B124-A8B7E317A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543BC-D1CE-4C6D-B78E-9B2DE0B51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78E3D-1EC0-4A08-9D82-FCA50C773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7345A-FEF7-472C-821E-C38C85F00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CE6F8-3F16-4437-88A8-3AF17B2B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581A-E6F6-4D31-86A7-21200F3F2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1B5ED-8AEC-4C23-810A-6937C6D8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11135-4659-4E21-AEF3-7BC251FD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31428-2E05-446C-A754-5AF7E69AF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CEF99-0C3F-4E95-AC55-B268191B6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9C117-0C5B-4023-8D0F-543DBCD8D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F817-FB81-42E4-A121-973E782FA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FC17-E196-4B30-83DD-1704260F3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3A1D-D72E-4D21-B3DD-79BF4358B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29A5-7922-43F6-8AAC-E17256233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578E-5773-4971-A0D0-D8DBE9B5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8CF2-087E-436E-8F4C-2A3F26BD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30B0-7149-448C-A51A-1039EAFC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7FCA8-17A0-4FAF-BF25-DA2E5F05252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0E104-C283-4990-BA73-B82BCB0D9F7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zakharsv@online.ru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1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33"/>
                </a:solidFill>
                <a:latin typeface="Futura Md BT"/>
              </a:rPr>
              <a:t>Демографический анализ эффекта мер семейной политики 1980-х гг. в России </a:t>
            </a:r>
            <a:r>
              <a:rPr b="1" i="1" lang="ru-RU" sz="2800" spc="-1" strike="noStrike">
                <a:solidFill>
                  <a:srgbClr val="006633"/>
                </a:solidFill>
                <a:latin typeface="Futura Md BT"/>
              </a:rPr>
              <a:t>(по данным Росстата и </a:t>
            </a:r>
            <a:r>
              <a:rPr b="1" i="1" lang="en-US" sz="2800" spc="-1" strike="noStrike">
                <a:solidFill>
                  <a:srgbClr val="006633"/>
                </a:solidFill>
                <a:latin typeface="Futura Md BT"/>
              </a:rPr>
              <a:t>RusGGS</a:t>
            </a:r>
            <a:r>
              <a:rPr b="1" i="1" lang="ru-RU" sz="2800" spc="-1" strike="noStrike">
                <a:solidFill>
                  <a:srgbClr val="006633"/>
                </a:solidFill>
                <a:latin typeface="Futura Md BT"/>
              </a:rPr>
              <a:t>-2004)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16000" y="4292640"/>
            <a:ext cx="7632720" cy="21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f5f5f"/>
                </a:solidFill>
                <a:latin typeface="Arial Black"/>
              </a:rPr>
              <a:t>Сергей В. Заха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f5f5f"/>
                </a:solidFill>
                <a:latin typeface="Arial Black"/>
              </a:rPr>
              <a:t>Центр демографии и экологии челове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f5f5f"/>
                </a:solidFill>
                <a:latin typeface="Arial Black"/>
              </a:rPr>
              <a:t>ИНП Р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f5f5f"/>
                </a:solidFill>
                <a:latin typeface="Arial Black"/>
              </a:rPr>
              <a:t>Научный руководител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f5f5f"/>
                </a:solidFill>
                <a:latin typeface="Arial Black"/>
              </a:rPr>
              <a:t>программы </a:t>
            </a:r>
            <a:r>
              <a:rPr b="0" lang="en-US" sz="1600" spc="-1" strike="noStrike">
                <a:solidFill>
                  <a:srgbClr val="5f5f5f"/>
                </a:solidFill>
                <a:latin typeface="Arial Black"/>
              </a:rPr>
              <a:t>GGP</a:t>
            </a:r>
            <a:r>
              <a:rPr b="0" lang="ru-RU" sz="1600" spc="-1" strike="noStrike">
                <a:solidFill>
                  <a:srgbClr val="5f5f5f"/>
                </a:solidFill>
                <a:latin typeface="Arial Black"/>
              </a:rPr>
              <a:t> в Росс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6600"/>
                </a:solidFill>
                <a:uFillTx/>
                <a:latin typeface="Arial Black"/>
                <a:hlinkClick r:id="rId1"/>
              </a:rPr>
              <a:t>zakharsv@online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6600"/>
                </a:solidFill>
                <a:latin typeface="Tahoma"/>
              </a:rPr>
              <a:t>Обследование </a:t>
            </a:r>
            <a:r>
              <a:rPr b="0" i="1" lang="en-US" sz="1200" spc="-1" strike="noStrike">
                <a:solidFill>
                  <a:srgbClr val="996600"/>
                </a:solidFill>
                <a:latin typeface="Tahoma"/>
              </a:rPr>
              <a:t>RusGGS-2004 </a:t>
            </a:r>
            <a:r>
              <a:rPr b="0" i="1" lang="ru-RU" sz="1200" spc="-1" strike="noStrike">
                <a:solidFill>
                  <a:srgbClr val="996600"/>
                </a:solidFill>
                <a:latin typeface="Tahoma"/>
              </a:rPr>
              <a:t>проведено при финансовой поддержке Пенсионного Фонда РФ , Института демографических исследований общества  Макса Планка (Германия), Независимого института социальной политики (Москва</a:t>
            </a:r>
            <a:r>
              <a:rPr b="0" i="1" lang="ru-RU" sz="1200" spc="-1" strike="noStrike">
                <a:solidFill>
                  <a:srgbClr val="996600"/>
                </a:solidFill>
                <a:latin typeface="Arial Black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Анализ изменения рождаемости в трех измерениях: возраст, когорта, календарный год.</a:t>
            </a: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Усиление тенденции к омоложению рождаемости – главный результат политики.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Рис. 4. Отклонения возрастных коэффициентов рождаемости реальных поколений в 1981-1990г. от коэффициентов для условного поколения 1980г.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" y="1716120"/>
            <a:ext cx="822960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507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Рис. 5. Отклонения коэффициентов рождаемости реальных поколений в 1981-2005 гг. от соответствующих возрастных коэффициентов для условного поколения 1980г.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69840" y="1704960"/>
            <a:ext cx="72025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Рис 6. Сравнение итоговой рождаемости когорты женщин 1959-1960 г.р. и итоговой рождаемости для условного поколения 1980г.: </a:t>
            </a:r>
            <a:r>
              <a:rPr b="1" lang="en-US" sz="2000" spc="-1" strike="noStrike">
                <a:solidFill>
                  <a:srgbClr val="006633"/>
                </a:solidFill>
                <a:latin typeface="Garamond"/>
              </a:rPr>
              <a:t>накопленным итогом к указанному возрасту.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Рис. 7. Итоговая рождаемость поколений накопленным итогом к указанным возрастам. </a:t>
            </a:r>
            <a:br>
              <a:rPr sz="2800"/>
            </a:b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(по данным </a:t>
            </a: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RusGGS-2004</a:t>
            </a: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60440" y="1814400"/>
            <a:ext cx="822312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507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33"/>
                </a:solidFill>
                <a:latin typeface="Garamond"/>
              </a:rPr>
              <a:t>Рис.8. Сравнение итоговой рождаемости поколений 1950-1974 годов рождений с итоговой рождаемостью поколений 1945-1949 г.р.: накопленным итогом к указанным возрастам (по данным </a:t>
            </a: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RusGGS-2004)</a:t>
            </a:r>
            <a:r>
              <a:rPr b="1" lang="ru-RU" sz="2400" spc="-1" strike="noStrike">
                <a:solidFill>
                  <a:srgbClr val="006633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202520" cy="43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Выводы 2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9152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начало действия мер политики поколения реагировали немедленно, в соответствии со своим возрастом: чем моложе, тем сильн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 каждым новым поколением, входившим в репродуктивный возраст в 1981-1990 гг. (период действия политики), материнство сдвигалось ко все более молодым возрастам, провоцируя все более и более глубокие провалы рождаемости в старших возраст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имер 1: </a:t>
            </a:r>
            <a:r>
              <a:rPr b="0" lang="en-US" sz="1600" spc="-1" strike="noStrike">
                <a:solidFill>
                  <a:srgbClr val="3366cc"/>
                </a:solidFill>
                <a:latin typeface="Arial"/>
              </a:rPr>
              <a:t>Итоговая рождаемость для когорты 1959-1960 гг. р., гг.          последовательно проходившей возраста от 21 до 31 года в 1981-1990, в точности соответствует коэффициенту суммарной рождаемости в 1980г. (1,87). В то же время часть рождений (по оценке около 0,12 детей в расчете на одну женщину), которые можно было бы ожидать у женщин в возрастах старше 30 лет, родились раньше, до достижения ими 30 летнего возрас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имер 2: </a:t>
            </a:r>
            <a:r>
              <a:rPr b="0" lang="en-US" sz="1600" spc="-1" strike="noStrike">
                <a:solidFill>
                  <a:srgbClr val="3366cc"/>
                </a:solidFill>
                <a:latin typeface="Arial"/>
              </a:rPr>
              <a:t>По среднему числу рожденных детей когорта 1960-1964 гг. опережала график рождаемости когорты 1945-1949 вплоть до 37-летнего возраста (пик превышения к 26 годам – 0,27 рождений в расчете на одну женщину), когорта 1965-1969 гг. – до 30-летнего возраста (пик к 24 годам – 0,24), когорта 1970-1974 гг. - до 27-летнего возраста (пик к 21 году – 0.22). Или иначе, в шкале календарного времени, эти когорты опережали график рождаемости когорты 1945-1949 гг. (итоговая рождаемость -1,81) вплоть до конца 1990-х г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Выводы 2 (продолжение)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9152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 одна из когорт, испытавших воздействие мер политики в 1981-1990 гг., не продемонстрировала ускоренное падение рождаемости в первой половине 1990-х гг. (годы т.н. «шоковой терапии»). Для них усиление ограничения рождаемости приходится на 1988-1990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о же время на 1993 г. приходится максимальное отрицательное отклонение коэффициентов рождаемости данных когорт от коэффициентов рождаемости в соответствующих возрастах для условного поколения 1980 г., взятого в качестве модели. Причина – не только в трудностях первых лет перехода к к новой социально-экономической системе, но и в унификации цикла формирования семьи для различных когорт, вызванная календарем введения мер политики при неизменности идеальной модели детности (не более 2-х) и относительно слабой эластичности интервалов между род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3366cc"/>
                </a:solidFill>
                <a:latin typeface="Arial"/>
              </a:rPr>
              <a:t>Политика стимулировала следующий календарь (крайне упрощенная схема при 5-летнем интервале между родами): 1982 г. - первый ребенок (да), 1987 г. – второй ребенок (да), 1992 – третий ребенок (нет). Когорта 1959-1960 г.р. реализовала эту схему в наиболее рафинированном вид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Анализ вероятностей рождения очередного ребенка (вероятностей увеличения семьи).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Насколько увеличилось доля женщин с двумя и тремя детьми?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Рис. 9. Вероятность рождения первого ребенка в реальных поколениях,   накопленным итогом к указанным возрастам (по данным </a:t>
            </a: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RusGGS-2004).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7200" y="1789200"/>
            <a:ext cx="8229600" cy="41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Общий тренд изменения рождаемости условных и реальных поколений в период действия семейной политики в 1981-1990 гг.:</a:t>
            </a: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Насколько увеличилось число российских граждан?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Рис. 10. Вероятность рождения второго ребенка в реальных поколениях,   накопленным итогом к указанным возрастам (по данным </a:t>
            </a: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RusGGS-2004).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57200" y="1832040"/>
            <a:ext cx="82296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Рис. 11. Вероятность рождения третьего ребенка в реальных поколениях,   накопленным итогом к указанным возрастам (по данным </a:t>
            </a: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RusGGS-2004).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7200" y="1743120"/>
            <a:ext cx="8229600" cy="42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33"/>
                </a:solidFill>
                <a:latin typeface="Garamond"/>
              </a:rPr>
              <a:t>Рис. 12. Распределение женщин реальных поколений по числу рожденных детей к возрасту 20, 25, 30, 35 лет</a:t>
            </a:r>
            <a:br>
              <a:rPr sz="2400"/>
            </a:br>
            <a:r>
              <a:rPr b="1" lang="ru-RU" sz="2400" spc="-1" strike="noStrike">
                <a:solidFill>
                  <a:srgbClr val="006633"/>
                </a:solidFill>
                <a:latin typeface="Garamond"/>
              </a:rPr>
              <a:t> (по данным </a:t>
            </a: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RusGGS-2004)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1639800"/>
            <a:ext cx="8229600" cy="44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33"/>
                </a:solidFill>
                <a:latin typeface="Garamond"/>
              </a:rPr>
              <a:t>Рис. 13. Распределение женщин реальных поколений по числу рожденных детей к возрасту 40 лет</a:t>
            </a:r>
            <a:br>
              <a:rPr sz="2400"/>
            </a:br>
            <a:r>
              <a:rPr b="1" lang="ru-RU" sz="2400" spc="-1" strike="noStrike">
                <a:solidFill>
                  <a:srgbClr val="006633"/>
                </a:solidFill>
                <a:latin typeface="Garamond"/>
              </a:rPr>
              <a:t> (по данным </a:t>
            </a: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RusGGS-2004)</a:t>
            </a:r>
            <a:r>
              <a:rPr b="1" lang="ru-RU" sz="2400" spc="-1" strike="noStrike">
                <a:solidFill>
                  <a:srgbClr val="006633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42880" y="1600200"/>
            <a:ext cx="8056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5075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Табл.3. Число рожденных детей к возрасту матери </a:t>
            </a:r>
            <a:r>
              <a:rPr b="1" i="1" lang="en-US" sz="2800" spc="-1" strike="noStrike">
                <a:solidFill>
                  <a:srgbClr val="006633"/>
                </a:solidFill>
                <a:latin typeface="Garamond"/>
              </a:rPr>
              <a:t>25 лет</a:t>
            </a: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  в когортах не испытавших и испытавших воздействие политики в 1981-1990 гг.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68360" y="1484280"/>
          <a:ext cx="8424720" cy="4711680"/>
        </p:xfrm>
        <a:graphic>
          <a:graphicData uri="http://schemas.openxmlformats.org/drawingml/2006/table">
            <a:tbl>
              <a:tblPr/>
              <a:tblGrid>
                <a:gridCol w="1386000"/>
                <a:gridCol w="2246040"/>
                <a:gridCol w="1222560"/>
                <a:gridCol w="1168200"/>
                <a:gridCol w="1220760"/>
                <a:gridCol w="1181160"/>
              </a:tblGrid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рожд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за сравнения - когорта 1950-54,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Когор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955-59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огор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960-64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+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ее число рожд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,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+0,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,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0,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5075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Табл.4. Число рожденных детей к возрасту матери </a:t>
            </a:r>
            <a:r>
              <a:rPr b="1" i="1" lang="en-US" sz="2400" spc="-1" strike="noStrike">
                <a:solidFill>
                  <a:srgbClr val="006633"/>
                </a:solidFill>
                <a:latin typeface="Garamond"/>
              </a:rPr>
              <a:t>30</a:t>
            </a:r>
            <a:r>
              <a:rPr b="1" i="1" lang="en-US" sz="2800" spc="-1" strike="noStrike">
                <a:solidFill>
                  <a:srgbClr val="006633"/>
                </a:solidFill>
                <a:latin typeface="Garamond"/>
              </a:rPr>
              <a:t> лет</a:t>
            </a: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  в когортах не испытавших и испытавших воздействие политики в 1981-1990 гг.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68360" y="1484280"/>
          <a:ext cx="8424720" cy="4711680"/>
        </p:xfrm>
        <a:graphic>
          <a:graphicData uri="http://schemas.openxmlformats.org/drawingml/2006/table">
            <a:tbl>
              <a:tblPr/>
              <a:tblGrid>
                <a:gridCol w="1386000"/>
                <a:gridCol w="2246040"/>
                <a:gridCol w="1222560"/>
                <a:gridCol w="1168200"/>
                <a:gridCol w="1220760"/>
                <a:gridCol w="1181160"/>
              </a:tblGrid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рожд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за сравнения - когорта 1945-49,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Когор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955-59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огор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960-64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+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+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ее число рожд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,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+0,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,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0,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5075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Табл.5. Число рожденных детей к возрасту матери </a:t>
            </a:r>
            <a:r>
              <a:rPr b="1" i="1" lang="en-US" sz="2400" spc="-1" strike="noStrike">
                <a:solidFill>
                  <a:srgbClr val="006633"/>
                </a:solidFill>
                <a:latin typeface="Garamond"/>
              </a:rPr>
              <a:t>40</a:t>
            </a:r>
            <a:r>
              <a:rPr b="1" i="1" lang="en-US" sz="2800" spc="-1" strike="noStrike">
                <a:solidFill>
                  <a:srgbClr val="006633"/>
                </a:solidFill>
                <a:latin typeface="Garamond"/>
              </a:rPr>
              <a:t> лет</a:t>
            </a: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  в когортах не испытавших и испытавших воздействие политики в 1981-1990 гг.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68360" y="1484280"/>
          <a:ext cx="8424720" cy="4711680"/>
        </p:xfrm>
        <a:graphic>
          <a:graphicData uri="http://schemas.openxmlformats.org/drawingml/2006/table">
            <a:tbl>
              <a:tblPr/>
              <a:tblGrid>
                <a:gridCol w="1386000"/>
                <a:gridCol w="2246040"/>
                <a:gridCol w="1222560"/>
                <a:gridCol w="1168200"/>
                <a:gridCol w="1220760"/>
                <a:gridCol w="1181160"/>
              </a:tblGrid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рожд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за сравнения - когорта 1935-39,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Когор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955-59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огор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960-64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+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+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ее число рожд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,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+0,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,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0,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Выводы 3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олитика вызвала усиление позиций двухдетной семьи в качестве идеальной модел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Доля бездетных женщин едва ли сократилась сколько-нибудь существенным образо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опулярность семей с тремя детьми не увеличилас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Доля женщин, изменивших свой статус по числу рожденных детей, может быть оценена  приблизительно в 10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Анализ</a:t>
            </a: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величины интервалов времени между первым и вторым рождением у матери.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Временное повышение темпов формирования семьи – главный результат политики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507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33"/>
                </a:solidFill>
                <a:latin typeface="Garamond"/>
              </a:rPr>
              <a:t>Рис. 14. Средний интервал между первым и вторым рождением у матери в зависимости от года рождения первого ребенка (по данным </a:t>
            </a: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RusGGS-2004</a:t>
            </a:r>
            <a:r>
              <a:rPr b="1" lang="ru-RU" sz="2400" spc="-1" strike="noStrike">
                <a:solidFill>
                  <a:srgbClr val="006633"/>
                </a:solidFill>
                <a:latin typeface="Garamond"/>
              </a:rPr>
              <a:t>, 3-летняя скользящая средняя</a:t>
            </a: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)</a:t>
            </a:r>
            <a:r>
              <a:rPr b="1" lang="ru-RU" sz="2400" spc="-1" strike="noStrike">
                <a:solidFill>
                  <a:srgbClr val="006633"/>
                </a:solidFill>
                <a:latin typeface="Garamond"/>
              </a:rPr>
              <a:t>, лет.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7991280" cy="43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Рис.1. Итоговая рождаемость условных и реальных поколений. Россия: календарные годы 1959-2005,  когорты 1930-1975 г.р. (сдвиг на 28 лет)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549440" y="1668600"/>
            <a:ext cx="604368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Рис 15. Кумулятивная функция распределения интервалов между первым и вторым рождением у матери, родившей первого ребенка в 1973-1975, 1984-1986 и 1990-1992 гг., %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84360" y="1735200"/>
            <a:ext cx="792000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33"/>
                </a:solidFill>
                <a:latin typeface="Garamond"/>
              </a:rPr>
              <a:t>Рис. 16. Средний интервал времени между первым и вторым рождением у матери в реальных поколениях к указанным возрастам (по данным </a:t>
            </a: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RusGGS-2004).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11280" y="1565280"/>
            <a:ext cx="770580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Выводы 4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424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редний интервал времени между 1-м и 2-м ребенком в реальных поколениях сократился на 1,5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енщины, родившие первого ребенка в первые годы действия политики (сер. 1980-х гг.), сократили интервал между родами наиболее значительно – более, чем на 2 года, по сравнению, с теми, кто родил первенца в середине 1970-х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пределение женщин по интервалу между 1-м и 2-м рождением к началу 1990-х гг. (годы рождения первого ребенка) вернулось к прежнему состоянию (т.е. к тому, которое было до начала политики). Затем тенденция к увеличению интервалов между родами продолжила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Вероятность рождения очередного ребенка в зависимости от типа поселения.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Реакция городского населения на меры политики была сильнее, чем сельского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33"/>
                </a:solidFill>
                <a:latin typeface="Garamond"/>
              </a:rPr>
              <a:t>Рис. 17. Вероятность первого рождения к указанным возрастам в реальных поколениях в зависимости от типа поселения (по данным</a:t>
            </a: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 RusGGS-2004)</a:t>
            </a:r>
            <a:r>
              <a:rPr b="1" lang="ru-RU" sz="2400" spc="-1" strike="noStrike">
                <a:solidFill>
                  <a:srgbClr val="006633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1620720"/>
            <a:ext cx="4038480" cy="21463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648320" y="1619280"/>
            <a:ext cx="4038480" cy="21510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457200" y="3959280"/>
            <a:ext cx="4038480" cy="21542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4648320" y="3957480"/>
            <a:ext cx="403848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33"/>
                </a:solidFill>
                <a:latin typeface="Garamond"/>
              </a:rPr>
              <a:t>Рис. 18. Вероятность второго рождения к указанным возрастам в реальных поколениях в зависимости от типа поселения (по данным</a:t>
            </a: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 RusGGS-2004)</a:t>
            </a:r>
            <a:r>
              <a:rPr b="1" lang="ru-RU" sz="2400" spc="-1" strike="noStrike">
                <a:solidFill>
                  <a:srgbClr val="006633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57200" y="1619280"/>
            <a:ext cx="4038480" cy="21510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648320" y="1617840"/>
            <a:ext cx="4038480" cy="21542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457200" y="3957480"/>
            <a:ext cx="403848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33"/>
                </a:solidFill>
                <a:latin typeface="Garamond"/>
              </a:rPr>
              <a:t>Рис. 19. Вероятность третьего рождения к указанным возрастам в реальных поколениях в зависимости от типа поселения (по данным</a:t>
            </a: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 RusGGS-2004)</a:t>
            </a:r>
            <a:r>
              <a:rPr b="1" lang="ru-RU" sz="2400" spc="-1" strike="noStrike">
                <a:solidFill>
                  <a:srgbClr val="006633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57200" y="1617840"/>
            <a:ext cx="4038480" cy="21542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648320" y="1616040"/>
            <a:ext cx="4038480" cy="21574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457200" y="3954600"/>
            <a:ext cx="4038480" cy="21621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4648320" y="3952800"/>
            <a:ext cx="4038480" cy="21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Выводы 5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од воздействием политики темпы формирования семей в молодом возрасте (до 25 лет) в городах и сельской местности практически сравнялись, преимущественно за счет резкого повышения темпов рождения детей первых трех очередностей в города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Итоговая вероятность рождения 1-го, 2-го и 3-его ребенка в сельской местности практически не изменилась, а в городах увеличение шансов иметь первого и второго ребенка заметно повысились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362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Вероятность рождения очередного ребенка  и интервал между родами в зависимости от уровня образования.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Реакция более образованных на меры политики была сильнее, чем менее образованных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33"/>
                </a:solidFill>
                <a:latin typeface="Garamond"/>
              </a:rPr>
              <a:t>Рис. 20. Вероятность первого рождения к указанным возрастам в реальных поколениях в зависимости от уровня образования (по данным</a:t>
            </a: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 RusGGS-2004)</a:t>
            </a:r>
            <a:r>
              <a:rPr b="1" lang="ru-RU" sz="2400" spc="-1" strike="noStrike">
                <a:solidFill>
                  <a:srgbClr val="006633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57200" y="1635120"/>
            <a:ext cx="4038480" cy="21178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648320" y="1633680"/>
            <a:ext cx="4038480" cy="21207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457200" y="3973680"/>
            <a:ext cx="4038480" cy="21254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4648320" y="3957480"/>
            <a:ext cx="403848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Рис.2. Итоговая рождаемость условных и реальных поколений. Россия: календарные годы 1976-1999,  когорты 1943-1966 г.р. (сдвиг на 33 года)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546200" y="1704960"/>
            <a:ext cx="605016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33"/>
                </a:solidFill>
                <a:latin typeface="Garamond"/>
              </a:rPr>
              <a:t>Рис. 21. Вероятность второго рождения к указанным возрастам в реальных поколениях в зависимости от уровня образования (по данным</a:t>
            </a: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 RusGGS-2004)</a:t>
            </a:r>
            <a:r>
              <a:rPr b="1" lang="ru-RU" sz="2400" spc="-1" strike="noStrike">
                <a:solidFill>
                  <a:srgbClr val="006633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57200" y="1627200"/>
            <a:ext cx="4038480" cy="21337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648320" y="1625760"/>
            <a:ext cx="4038480" cy="21380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457200" y="3965400"/>
            <a:ext cx="4038480" cy="21416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4648320" y="3962520"/>
            <a:ext cx="403848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33"/>
                </a:solidFill>
                <a:latin typeface="Garamond"/>
              </a:rPr>
              <a:t>Рис. 22. Вероятность третьего рождения к указанным возрастам в реальных поколениях в зависимости от уровня образования (по данным</a:t>
            </a: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 RusGGS-2004)</a:t>
            </a:r>
            <a:r>
              <a:rPr b="1" lang="ru-RU" sz="2400" spc="-1" strike="noStrike">
                <a:solidFill>
                  <a:srgbClr val="006633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57200" y="1627200"/>
            <a:ext cx="4038480" cy="21337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648320" y="1625760"/>
            <a:ext cx="4038480" cy="21380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457200" y="3965400"/>
            <a:ext cx="4038480" cy="21416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4648320" y="3962520"/>
            <a:ext cx="403848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507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Рис. 23. Средний интервал между рождением первого и второго ребенка в реальных поколениях в зависимости от уровня образования (возраст матери при рождении 2-го ребенка до 30 и 35 лет).</a:t>
            </a:r>
            <a:br>
              <a:rPr sz="2400"/>
            </a:b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971640" y="1700280"/>
            <a:ext cx="7272360" cy="44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33"/>
                </a:solidFill>
                <a:latin typeface="Garamond"/>
              </a:rPr>
              <a:t>Рис. 24. Доля женщин, родивших 2-го ребенка менее через 3 года после рождения первого в реальных поколениях (по данным </a:t>
            </a: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RusGGS-2004).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826920" y="1558800"/>
            <a:ext cx="784872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33"/>
                </a:solidFill>
                <a:latin typeface="Garamond"/>
              </a:rPr>
              <a:t>Рис. 25. Доля женщин, родивших 2-го ребенка менее через 2 года после рождения первого в реальных поколениях (по данным </a:t>
            </a: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RusGGS-2004).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84360" y="1644480"/>
            <a:ext cx="784836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Выводы 6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ероятность рождения первого ребенка у менее образованных женщин (с уровнем образования не выше ПТУ) не изменилась, если не считать резкого скачка вероятности иметь первого ребенка (и последующих детей) до 20 лет у когорты 1970-1974 гг. рождени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Темпы рождаемости у женщин с высоким уровнем образования (со средним профессиональным и выше)  возросли очень сильно в молодом возрасте. Вероятность рождения 1-го и 2-го ребенка к возрасту 25 лет у более образованных женщин сравнялась или даже превысила вероятность рождения детей у менее образованных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Итоговая вероятность рождения третьего ребенка практически не изменилась ни у менее образованных, ни у более образованных женщин, однако у менее образованных третий ребенок появился на свет в среднем в более раннем возрасте, чем до политик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Выводы 6 (продолжение)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тервалы между первым и вторым рождением сократились существенным образом и у менее, и у более образованных женщин. Однако у более образованных женщин они сократились сильнее. В результате чего различия по уровню образования временно исчез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ля женщин, родивших второго ребенка с укороченным интервалом времени между родами (менее 3-х и менее 2-х лет), у женщин с высоким образовательным уровнем подскочила очень резко и для когорты 1960-64 г.р. превысила показатель для менее образованных женщ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ff"/>
                </a:solidFill>
                <a:latin typeface="Arial"/>
              </a:rPr>
              <a:t>Пример. К возрасту рождения 2-го ребенка 30 лет в когорте 1945-49 г.р. среди более образованных  женщин доля с менее чем 3-х летним интервалом между 1-м и 2- рождением составляла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5%,</a:t>
            </a:r>
            <a:r>
              <a:rPr b="0" lang="en-US" sz="1500" spc="-1" strike="noStrike">
                <a:solidFill>
                  <a:srgbClr val="0000ff"/>
                </a:solidFill>
                <a:latin typeface="Arial"/>
              </a:rPr>
              <a:t> а в когорте 1960-64 с тем же высоким уровнем образования 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9%,</a:t>
            </a:r>
            <a:r>
              <a:rPr b="0" lang="en-US" sz="1500" spc="-1" strike="noStrike">
                <a:solidFill>
                  <a:srgbClr val="0000ff"/>
                </a:solidFill>
                <a:latin typeface="Arial"/>
              </a:rPr>
              <a:t> с интервалом между родами менее 2-х лет, соответственно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2%</a:t>
            </a:r>
            <a:r>
              <a:rPr b="0" lang="en-US" sz="1500" spc="-1" strike="noStrike">
                <a:solidFill>
                  <a:srgbClr val="0000ff"/>
                </a:solidFill>
                <a:latin typeface="Arial"/>
              </a:rPr>
              <a:t> и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9%.</a:t>
            </a:r>
            <a:r>
              <a:rPr b="0" lang="en-US" sz="1500" spc="-1" strike="noStrike">
                <a:solidFill>
                  <a:srgbClr val="0000ff"/>
                </a:solidFill>
                <a:latin typeface="Arial"/>
              </a:rPr>
              <a:t> Среди менее образованных женщин сокращение интервалов было куда более скромным: с интервалом менее 3-х лет  -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8%</a:t>
            </a:r>
            <a:r>
              <a:rPr b="0" lang="en-US" sz="1500" spc="-1" strike="noStrike">
                <a:solidFill>
                  <a:srgbClr val="0000ff"/>
                </a:solidFill>
                <a:latin typeface="Arial"/>
              </a:rPr>
              <a:t> (когорта 1945-49) и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6%</a:t>
            </a:r>
            <a:r>
              <a:rPr b="0" lang="en-US" sz="1500" spc="-1" strike="noStrike">
                <a:solidFill>
                  <a:srgbClr val="0000ff"/>
                </a:solidFill>
                <a:latin typeface="Arial"/>
              </a:rPr>
              <a:t> (когорта 1965-69), с интервалом мене 2-х лет –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7%</a:t>
            </a:r>
            <a:r>
              <a:rPr b="0" lang="en-US" sz="1500" spc="-1" strike="noStrike">
                <a:solidFill>
                  <a:srgbClr val="0000ff"/>
                </a:solidFill>
                <a:latin typeface="Arial"/>
              </a:rPr>
              <a:t> (когорта 1945-49) и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8%</a:t>
            </a:r>
            <a:r>
              <a:rPr b="0" lang="en-US" sz="1500" spc="-1" strike="noStrike">
                <a:solidFill>
                  <a:srgbClr val="0000ff"/>
                </a:solidFill>
                <a:latin typeface="Arial"/>
              </a:rPr>
              <a:t> (когорта 1965-69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ДИСКУССИ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 точки зрения общего повышения рождаемости эффект семейной политики 1981-1990 гг. можно оценить как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очень скромный положительны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т.е. едва отличающийся от нуля со знаком плюс). Возможно, для когорт 1955-1965 гг. р. эффект был бы выше, если бы они свой третий десяток лет прожили в более спокойной соц.-экономической атмосфере (прирост итоговой рождаемости реальных поколений мог бы составить, по нашей оценке, не 0,1, а 0,15 рождений на одну женщину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ременная дестабилизация календаря рождений (снижение возраста материнства, сокращение интервалов между рождениями) оказалась очень сильной. Наблюдавшийся и до политики тренд к омоложению рождаемости, значительно усилил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ля женщин с двумя детьми, особенно в молодом возрасте (до 25 лет) повысилась очень значительно. В результате к началу рыночных реформ необычно высокая часть женщин была обременена маленькими детьми и находилась в отпусках по уходу за ними. Последствия для адаптации населения к изменившейся соц.-эк. реальности – вопрос для диску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ДИСКУССИЯ (продолжение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олитика повлияла на рождаемость, в первую очередь, жителей городов и женщин с  высоким образовательным статусом. По темпам формирования семей жители городов временно стали напоминать жителей села, а лица с высоким образовательным статусом лиц с низким образовательным статусом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Характер изменения календаря рождений и социальный состав, продемонстрировавших эти изменения, подтверждают, что наиболее значимым инновационными инструментами политики было увеличение отпуска по беременности и родам и учреждение отпусков по уходу за ребенком (до 1.5, а затем и до 3-х лет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 результате политики более одной трети всех женщин вновь становились беременными в период отпуска по уходу за первым (отпусками пользовалось подавляющее большинство) и рожали второго ребенка, на законных условиях продлевая отпуск по уходу маленькими детьми. Последствия для здоровья матери и детей – вопрос для изучени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ерепись 2002 г. и данные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usGGS-2004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убедительно показывают  прекращение роста и даже снижение распространенности высшего образования в когортах, испытавших раннее материнство в 1980-х гг. Какой направленности взаимосвязь: раннее материнство </a:t>
            </a:r>
            <a:r>
              <a:rPr b="0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ru-RU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уровень образования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опрос дискуссионный, но ассоциация очевидн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Рис. 3. Годовой прирост итоговой рождаемости. Россия: календарные годы 1981-1990 </a:t>
            </a:r>
            <a:r>
              <a:rPr b="1" lang="en-US" sz="2400" spc="-1" strike="noStrike">
                <a:solidFill>
                  <a:srgbClr val="3366cc"/>
                </a:solidFill>
                <a:latin typeface="Garamond"/>
              </a:rPr>
              <a:t>(левая панель)</a:t>
            </a: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, реальные когорты 1948-1961 г.р. 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(правая панель)</a:t>
            </a: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, рождений на одну женщину.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2274840"/>
            <a:ext cx="822960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507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Табл.1. Фактическое и гипотетическое число рождений: суммарно за 1981-1990 гг., расчет для условных поколений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4906800"/>
                <a:gridCol w="332280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ическое число рождений: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1-1990, тыс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3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9900"/>
                          </a:solidFill>
                          <a:latin typeface="Arial"/>
                        </a:rPr>
                        <a:t>Гипотетически при сохранении возрастных коэффициентов 1980 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9900"/>
                          </a:solidFill>
                          <a:latin typeface="Arial"/>
                        </a:rPr>
                        <a:t>2103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азница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условный эффект политики), тыс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28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процентах от фактического чис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8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процентах от гипотетического чис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8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539640" y="3357720"/>
            <a:ext cx="813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4076640"/>
            <a:ext cx="813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507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Табл.2. Фактическое и гипотетическое число рождений: суммарно для реальных поколений 1948-1960 г.р.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4906800"/>
                <a:gridCol w="332280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ическое число рождений у поколений 1948-1960, тыс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18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9900"/>
                          </a:solidFill>
                          <a:latin typeface="Arial"/>
                        </a:rPr>
                        <a:t>Гипотетически при сохранении рождаемости поколений1945-47 г.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9900"/>
                          </a:solidFill>
                          <a:latin typeface="Arial"/>
                        </a:rPr>
                        <a:t>2813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азница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условный эффект политики), тыс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4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процентах от фактического чис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6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процентах от гипотетического чис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7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539640" y="3357720"/>
            <a:ext cx="813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4076640"/>
            <a:ext cx="813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Выводы 1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Если опираться на результаты для условных поколений, то максимальное увеличение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TFR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ставило 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0,36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рождений в расчете на одну женщину (1.87 в 1980 г. и 2,23 в 1987 г.). В итоге в 1981-1990 гг. было получено дополнительно  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2,28 млн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 рождений (прирост на 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9,8-10,8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%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Если опираться на результаты для реальных поколений, то максимальное увеличение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TFR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составило </a:t>
            </a:r>
            <a:r>
              <a:rPr b="0" lang="ru-RU" sz="2600" spc="-1" strike="noStrike">
                <a:solidFill>
                  <a:srgbClr val="0000ff"/>
                </a:solidFill>
                <a:latin typeface="Arial"/>
              </a:rPr>
              <a:t>0,09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рождений на одну женщину (1,81 для когорт 1945-1947 г.р. и 1,90 для когорты 1954 г.р.). В итоге поколения 1948-1960 гг. р. произвели на свет дополнительно </a:t>
            </a:r>
            <a:r>
              <a:rPr b="0" lang="ru-RU" sz="2600" spc="-1" strike="noStrike">
                <a:solidFill>
                  <a:srgbClr val="0000ff"/>
                </a:solidFill>
                <a:latin typeface="Arial"/>
              </a:rPr>
              <a:t>1,04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млн. детей (прирост на </a:t>
            </a:r>
            <a:r>
              <a:rPr b="0" lang="ru-RU" sz="2600" spc="-1" strike="noStrike">
                <a:solidFill>
                  <a:srgbClr val="0000ff"/>
                </a:solidFill>
                <a:latin typeface="Arial"/>
              </a:rPr>
              <a:t>3,6-3,7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%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Выводы 1 (продолжение)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Если под демографическим эффектом политики понимать реальное </a:t>
            </a:r>
            <a:r>
              <a:rPr b="1" i="1" lang="en-US" sz="2600" spc="-1" strike="noStrike">
                <a:solidFill>
                  <a:srgbClr val="ff0000"/>
                </a:solidFill>
                <a:latin typeface="Arial"/>
              </a:rPr>
              <a:t>увеличение числа граждан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то следует опираться на результаты расчетов для </a:t>
            </a:r>
            <a:r>
              <a:rPr b="1" i="1" lang="en-US" sz="2600" spc="-1" strike="noStrike">
                <a:solidFill>
                  <a:srgbClr val="0000ff"/>
                </a:solidFill>
                <a:latin typeface="Arial"/>
              </a:rPr>
              <a:t>реальных поколений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оскольку расчеты для условных поколений не учитывают сильные календарные сдвиги во времени появления на свет детей у женщин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ужно иметь в виду, что число рождений год от года может сильно колебаться, но при этом итоговое число рождений в расчете на одну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реальную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женщину к концу ее жизни может и не изменитьс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6T08:30:45Z</dcterms:created>
  <dc:creator>Захаров</dc:creator>
  <dc:description/>
  <dc:language>en-US</dc:language>
  <cp:lastModifiedBy>amordovin</cp:lastModifiedBy>
  <dcterms:modified xsi:type="dcterms:W3CDTF">2006-09-11T04:05:55Z</dcterms:modified>
  <cp:revision>66</cp:revision>
  <dc:subject/>
  <dc:title>Демографический анализ эффекта мер семейной политики 1980-х гг. в России (по данным Росстата и RUSGGS-2004)</dc:title>
</cp:coreProperties>
</file>